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10.wmf" ContentType="image/x-wmf"/>
  <Override PartName="/ppt/media/image2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5.png" ContentType="image/png"/>
  <Override PartName="/ppt/media/image3.jpeg" ContentType="image/jpeg"/>
  <Override PartName="/ppt/media/image13.jpeg" ContentType="image/jpeg"/>
  <Override PartName="/ppt/media/image6.jpeg" ContentType="image/jpeg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9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</p:sldIdLst>
  <p:sldSz cx="9144000" cy="6858000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6EA2-235F-4149-A22D-8351F2FAE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1EE9-E98C-4BB1-A35C-08B3C2F3B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5F69-A867-43D9-993F-7ABDEF5DD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C9F0-79DC-4C2E-A51D-EA8D9AAEA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A0454-47FA-43C9-A576-70D0721C4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4B5D-9462-473A-AB94-823A975B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B783B-76DA-4B36-861E-7875CD384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EE2EF-A7AF-4523-B02B-ED88CDB7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AF7C-8387-47E2-9CD8-8A1A1B4E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A4E0-F989-4D21-8424-928151E4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1F248-FA35-4834-B163-075BB4AD8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43D0-8E4B-4513-B0D5-190F6206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149E-9D7E-4D83-80A7-ADDC00BC6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57ED1-E475-4D4B-9B3C-8C8A8BD1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52813-D9BC-4B53-A4D5-B8D98CEB0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314D-AB0D-42C2-884A-D30F3AAC5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3B43D-5243-4466-B2DD-AFFCFB851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D8470-11A5-47EC-BA5F-D9E41EA95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EF820-4856-4382-BD45-AA10AE37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EE374-C100-454A-9A62-80DC39AAD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837F9E-CA28-45A8-8284-64D3536FA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E9657-5117-4717-98C0-F516659EF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ADFE-1DC0-4228-BC2D-B1A92FA2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E6B67-A3CB-457E-88B9-E829DBD9F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73308-4727-489B-8E14-0D278B97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92471C-90A9-460B-9B2C-E15595BD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07E5C-BD55-4213-9B53-833B756A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1100C-9E89-40E1-9C02-47F12433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AF173-8B95-4AB4-B1D1-A92EFCF29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564B9B-F4DB-4B78-8F07-5AF331EB3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C137D-6B8D-4EB7-8A04-3B7C7915C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EA404-9E29-4D1B-84CA-AD0E668F8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FBD97-1313-48AF-BC19-A27251F2E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188-D60A-4D57-9A31-2D401F181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B023B-104B-463C-B614-D1597DA59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C63200-E12C-4732-B310-C7F445CA4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A9FFB2-15AA-42AC-A5BC-D33C3192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2624E-8D38-4E27-A86D-CC9B07376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B61DE-5317-48D8-A82B-F8ADDD90E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AFA92-0F77-4329-805A-A1CB9CD58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3835B-21C6-4B81-AA88-B6CEBC7A1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52908-47A0-4859-BBE4-159A3C008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EBDBC-FD1C-4063-9DD1-F44AD24D3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1100AB-D0C6-4B11-9323-3C022C9E1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F2DC-74AA-4105-BC8A-09D2C589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4A518E-3BC4-4C49-86DF-67834DE0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556B6-6F21-4782-AD4F-69D7E615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2F8E16-78A3-400B-A58E-8B5B52AF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D9EB5-A4A3-45DA-9EE0-6DBB8A50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7E411-06D9-489B-B4B4-E93A4C03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CFD9D5-864B-4045-A58E-41F2D2AE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3A0D2-8BC5-433F-8713-FB2D9ED5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45C578-4748-4AB4-BD21-CA274FC4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825F1-46EE-4042-BA20-240FB7F99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156F2A-B6BB-41E8-B5E8-B487EFD54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8FC3-CD39-48DA-BD1C-B400A518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F0D5E-754F-439F-AC58-0EBCE0E06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17AF6-4191-412A-A625-D272FCB2C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561192-0486-4361-8D17-4CD1CA5B6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698AC-5FF1-4CCE-9248-220CCE5A3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BE75DC-1D29-43EA-826D-A358DC09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BDE5A9-8159-47B6-9945-E5B9E7C8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A708D-7E61-4594-8445-3A68700D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1EB35-EB17-44C3-A38A-B2BBD7C7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B285E-FA35-415E-9D9A-094B74E72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B36D2-1F47-45B7-A0FF-6AB6C06C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13619-FAAE-4182-AE43-4D4F7F9B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7FDD1-2AAB-4153-99C4-FE2553ABA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0A898-C602-4389-BBE4-1B573010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355463-239B-49AC-BDB4-71E3F95F9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14BF39-01DB-4105-A537-FA763BDD3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689F9-61F1-49AD-963F-EA161AA81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706FE-589E-4557-9490-8DA014D9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C6B96D-6A42-4325-B5CA-E05063EC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D8EDEF-C2A8-454E-8F07-72150E95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150CDC-FD45-487A-B018-73739FE4C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2DE544-FD23-4679-BF2B-5EADF769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9600-8DD3-4949-BD43-D6DF8B657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484F17-6606-4D99-B545-7DE9A5616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89156-15BE-4247-BD14-3B72053DA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6E50D-2859-49D8-B108-DE6199A5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6EDE7-78A5-4AE0-A083-278E5843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E05C4A-ED4B-4961-8EAB-A393ABC1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17EF-CD13-4F87-B0F1-363CB7AB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6357-7CCE-452C-8E6B-5A7A1315E358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13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パイ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円/楕円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ドーナツ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3" name="ドーナツ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正方形/長方形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C:\DATA\マイピクチャ\logo2.jpg"/>
          <p:cNvPicPr/>
          <p:nvPr/>
        </p:nvPicPr>
        <p:blipFill>
          <a:blip r:embed="rId4"/>
          <a:stretch/>
        </p:blipFill>
        <p:spPr>
          <a:xfrm>
            <a:off x="7738920" y="0"/>
            <a:ext cx="140508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正方形/長方形 13"/>
          <p:cNvSpPr/>
          <p:nvPr/>
        </p:nvSpPr>
        <p:spPr>
          <a:xfrm>
            <a:off x="857160" y="6488280"/>
            <a:ext cx="742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HGｺﾞｼｯｸE"/>
              </a:rPr>
              <a:t>Kyushu Embedded Software Technology Consortium(QU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円/楕円 15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60" name="円/楕円 15" descr=""/>
            <p:cNvPicPr/>
            <p:nvPr/>
          </p:nvPicPr>
          <p:blipFill>
            <a:blip r:embed="rId5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円/楕円 16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D03C-BB56-43A6-9ACA-5172C4418743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正方形/長方形 15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正方形/長方形 16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円/楕円 17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7" name="円/楕円 17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円/楕円 18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8E37-FF7F-4D7D-AB86-44B4205C791A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5C01-1A22-4D87-96A6-53ADE6284F8E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正方形/長方形 15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正方形/長方形 16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A4096-E390-48C9-A08F-F36AF19E2B44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747CF-E2EF-44FD-AB17-EE678146CFE2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正方形/長方形 15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7" name="正方形/長方形 15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フローチャート: 処理 16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フローチャート: 処理 17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F3EE-0B7C-4768-9296-52DB87F9C9F4}" type="slidenum">
              <a:rPr b="0" lang="ja-JP" sz="1200" spc="-1" strike="noStrike">
                <a:solidFill>
                  <a:srgbClr val="b5a788"/>
                </a:solidFill>
                <a:latin typeface="Gill Sans MT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wmf"/><Relationship Id="rId14" Type="http://schemas.openxmlformats.org/officeDocument/2006/relationships/image" Target="../media/image13.jpeg"/><Relationship Id="rId15" Type="http://schemas.openxmlformats.org/officeDocument/2006/relationships/image" Target="../media/image14.jpeg"/><Relationship Id="rId16" Type="http://schemas.openxmlformats.org/officeDocument/2006/relationships/image" Target="../media/image15.jpeg"/><Relationship Id="rId17" Type="http://schemas.openxmlformats.org/officeDocument/2006/relationships/image" Target="../media/image16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71720" y="2499840"/>
            <a:ext cx="7764480" cy="9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572314"/>
                </a:solidFill>
                <a:latin typeface="Gill Sans MT"/>
              </a:rPr>
              <a:t>QUEST</a:t>
            </a: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理事連絡会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セミナー状況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428840" y="4285800"/>
            <a:ext cx="740736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201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年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月</a:t>
            </a: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30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20e04"/>
                </a:solidFill>
                <a:latin typeface="Gill Sans MT"/>
              </a:rPr>
              <a:t>QUEST</a:t>
            </a:r>
            <a:r>
              <a:rPr b="0" lang="ja-JP" sz="2600" spc="-1" strike="noStrike">
                <a:solidFill>
                  <a:srgbClr val="320e04"/>
                </a:solidFill>
                <a:latin typeface="Gill Sans MT"/>
              </a:rPr>
              <a:t>　山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１．先進的組込み教育状況報告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98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ハイレベル先進新技術セミナ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定員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名　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7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日実施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R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センタービル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857240" y="2928960"/>
          <a:ext cx="6143760" cy="3222720"/>
        </p:xfrm>
        <a:graphic>
          <a:graphicData uri="http://schemas.openxmlformats.org/drawingml/2006/table">
            <a:tbl>
              <a:tblPr/>
              <a:tblGrid>
                <a:gridCol w="4392720"/>
                <a:gridCol w="1751040"/>
              </a:tblGrid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項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ＭＳ 明朝"/>
                          <a:ea typeface="HGｺﾞｼｯｸE"/>
                        </a:rPr>
                        <a:t>値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33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（関係者除く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0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率（参加人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申込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5.2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アンケート回収率（アンケート回収数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/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参加人数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70.0</a:t>
                      </a: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Gill Sans MT"/>
                          <a:ea typeface="HGｺﾞｼｯｸE"/>
                        </a:rPr>
                        <a:t>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18" descr="resize0091"/>
          <p:cNvPicPr/>
          <p:nvPr/>
        </p:nvPicPr>
        <p:blipFill>
          <a:blip r:embed="rId1"/>
          <a:stretch/>
        </p:blipFill>
        <p:spPr>
          <a:xfrm>
            <a:off x="1571760" y="5072040"/>
            <a:ext cx="2143080" cy="147492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２．ハイレベルセミナー</a:t>
            </a:r>
            <a:br>
              <a:rPr sz="3900"/>
            </a:br>
            <a:r>
              <a:rPr b="0" lang="ja-JP" sz="3900" spc="-1" strike="noStrike">
                <a:solidFill>
                  <a:srgbClr val="572314"/>
                </a:solidFill>
                <a:latin typeface="Gill Sans MT"/>
              </a:rPr>
              <a:t>　　アンケート結果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6"/>
          <p:cNvGraphicFramePr/>
          <p:nvPr/>
        </p:nvGraphicFramePr>
        <p:xfrm>
          <a:off x="3857760" y="1628640"/>
          <a:ext cx="2396880" cy="1800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7760" y="1628640"/>
                    <a:ext cx="23968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4" name="Object 8"/>
          <p:cNvGraphicFramePr/>
          <p:nvPr/>
        </p:nvGraphicFramePr>
        <p:xfrm>
          <a:off x="6286680" y="1571760"/>
          <a:ext cx="2377800" cy="1800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5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286680" y="1571760"/>
                    <a:ext cx="237780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7" name="Object 10"/>
          <p:cNvGraphicFramePr/>
          <p:nvPr/>
        </p:nvGraphicFramePr>
        <p:xfrm>
          <a:off x="1428840" y="3257640"/>
          <a:ext cx="2274840" cy="1800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38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28840" y="3257640"/>
                    <a:ext cx="2274840" cy="180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12"/>
          <p:cNvGraphicFramePr/>
          <p:nvPr/>
        </p:nvGraphicFramePr>
        <p:xfrm>
          <a:off x="3857760" y="3271680"/>
          <a:ext cx="2255760" cy="18003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1" name="Object 1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857760" y="3271680"/>
                    <a:ext cx="225576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Object 14"/>
          <p:cNvGraphicFramePr/>
          <p:nvPr/>
        </p:nvGraphicFramePr>
        <p:xfrm>
          <a:off x="6357960" y="3271680"/>
          <a:ext cx="2255760" cy="1798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44" name="Object 1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357960" y="3271680"/>
                    <a:ext cx="225576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Object 17"/>
          <p:cNvGraphicFramePr/>
          <p:nvPr/>
        </p:nvGraphicFramePr>
        <p:xfrm>
          <a:off x="1428840" y="1566720"/>
          <a:ext cx="2369880" cy="179100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46" name="Object 1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428840" y="1566720"/>
                    <a:ext cx="236988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7" name="Picture 19" descr="resize0092"/>
          <p:cNvPicPr/>
          <p:nvPr/>
        </p:nvPicPr>
        <p:blipFill>
          <a:blip r:embed="rId14"/>
          <a:stretch/>
        </p:blipFill>
        <p:spPr>
          <a:xfrm>
            <a:off x="3929040" y="5072040"/>
            <a:ext cx="2000160" cy="149868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20" descr="resize0088"/>
          <p:cNvPicPr/>
          <p:nvPr/>
        </p:nvPicPr>
        <p:blipFill>
          <a:blip r:embed="rId15"/>
          <a:stretch/>
        </p:blipFill>
        <p:spPr>
          <a:xfrm>
            <a:off x="7286760" y="5072040"/>
            <a:ext cx="1000080" cy="146700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21" descr="resize0082"/>
          <p:cNvPicPr/>
          <p:nvPr/>
        </p:nvPicPr>
        <p:blipFill>
          <a:blip r:embed="rId16"/>
          <a:stretch/>
        </p:blipFill>
        <p:spPr>
          <a:xfrm>
            <a:off x="6000840" y="5072040"/>
            <a:ext cx="1214280" cy="731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22" descr="resize0080"/>
          <p:cNvPicPr/>
          <p:nvPr/>
        </p:nvPicPr>
        <p:blipFill>
          <a:blip r:embed="rId17"/>
          <a:stretch/>
        </p:blipFill>
        <p:spPr>
          <a:xfrm>
            <a:off x="6000840" y="5786280"/>
            <a:ext cx="10522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00:29:00Z</dcterms:created>
  <dc:creator>yamashita</dc:creator>
  <dc:description/>
  <dc:language>en-US</dc:language>
  <cp:lastModifiedBy>yamashita</cp:lastModifiedBy>
  <dcterms:modified xsi:type="dcterms:W3CDTF">2010-03-25T03:02:12Z</dcterms:modified>
  <cp:revision>145</cp:revision>
  <dc:subject/>
  <dc:title>ETロボコン2009 九州地区反省と来年度について</dc:title>
</cp:coreProperties>
</file>